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FF8-EA1B-4499-84AE-AFFA77C5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AC6-C542-464C-A9F5-D04E272F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682-42B2-48DE-ABC8-3FB8958D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CAD-0633-4FDE-85EC-BBD45B17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AAE7-0C57-433F-BEE7-2115F57D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3635-18E8-4987-A423-DB03169F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2D0F-0664-46FC-9031-4E48214D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972F-53CB-42F2-B041-C46E1881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1E61-83B2-4D99-8F9E-2F4266B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D68B-4CB9-4312-BB8D-F5F857FB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C764-44CB-42C8-8086-E1BBD73D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BEE-3335-40EC-81A0-B32EDE86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010B-52BF-4453-B840-ECDCBC16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5903-6E45-48D3-B9E3-87197E3D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133A-4A5C-43F9-AE83-003FA134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2EB0-6020-4BAF-9C9A-C422BF83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580B-1B82-4037-B5E7-4EBFFAE0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372-C7FE-4672-8AAB-6D48D5F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23A-4BBB-4B1C-8799-B6A9DC54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886-D16F-4B8D-BB6D-BD707750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589-0DBD-4512-93F9-BD48F182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EA6-A59E-4620-A24A-EE21ECE8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F2D-EF61-4DB4-B6A9-5B761BB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801-E85F-486F-A867-0ACE9C0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4C87-DE08-4C0D-B9C0-2986B51FF0F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899B-7DEA-4C49-8029-00BA47D6352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582948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garaj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boni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5934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nd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 manisó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58291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isó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manisó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lujos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46864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ocin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cocin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fabulos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895480" y="3341520"/>
            <a:ext cx="50673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omedo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bell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539136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sala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impresionan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4686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bañ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bañ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gran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733920" y="3430440"/>
            <a:ext cx="434340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uar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magníf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49910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pat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boni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54864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jard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muy moder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03848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3:33Z</dcterms:created>
  <dc:creator>moscaritoloste</dc:creator>
  <dc:description/>
  <dc:language>en-US</dc:language>
  <cp:lastModifiedBy>moscaritoloste</cp:lastModifiedBy>
  <dcterms:modified xsi:type="dcterms:W3CDTF">2013-04-03T17:50:52Z</dcterms:modified>
  <cp:revision>7</cp:revision>
  <dc:subject/>
  <dc:title>La mansión</dc:title>
</cp:coreProperties>
</file>